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D56-11B2-474B-9759-07181F8B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483-80D4-4B49-ACA1-F9D8AA0C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FB6-5D27-405D-A9F6-112607CC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BFE-C695-4158-8B5B-4962CD0E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6F8A-04CD-4114-B9C4-AD44EE3E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8AAE-38F9-41B3-A43C-7452F7CD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F773-8B22-4922-9AB4-4E76910E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3F1C-5DC2-472E-814B-5CF5A6A2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46C0-7E2E-46C4-A045-292EF055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CE0A-E8A1-4F67-9365-E5B3B5F6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D059-0AA7-4CEC-8EA9-781BF7A4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5FF-5DED-4196-8B17-A7F637DD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B241-7541-4370-B0DF-0E4E04C8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A841-547C-46A8-BE33-15CDE49E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D7DC-ECD7-42BF-9886-416834B2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B13F-852C-4AB6-ABC8-8EC21EBB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C5C5-DF94-44D9-B692-6CFB10B8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1CC-CC8F-4124-A588-68A2F3A0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A15-82D9-46BE-8D4E-FEB5E274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6F5-2EAC-46D6-8294-AB1608E6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6AD-CD14-49CD-98D8-4F22151B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0BB-78C9-490D-AD65-2678A814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A38-8BC8-4FB3-B5A7-D55C8596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574-160E-4D7C-9EE8-D560CA19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BE8E-9738-42F7-A354-79BA16590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55A4-0F6C-4664-BEF1-B9E5BD83112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24000" y="980640"/>
            <a:ext cx="4321080" cy="64764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The Number Line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692360" y="1773360"/>
            <a:ext cx="7010280" cy="457200"/>
            <a:chOff x="1692360" y="1773360"/>
            <a:chExt cx="7010280" cy="457200"/>
          </a:xfrm>
        </p:grpSpPr>
        <p:sp>
          <p:nvSpPr>
            <p:cNvPr id="84" name=""/>
            <p:cNvSpPr/>
            <p:nvPr/>
          </p:nvSpPr>
          <p:spPr>
            <a:xfrm>
              <a:off x="1692360" y="2001960"/>
              <a:ext cx="701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768320" y="1773360"/>
              <a:ext cx="3276720" cy="457200"/>
              <a:chOff x="1768320" y="1773360"/>
              <a:chExt cx="3276720" cy="4572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673440" y="1773360"/>
                <a:ext cx="1371600" cy="457200"/>
                <a:chOff x="3673440" y="1773360"/>
                <a:chExt cx="1371600" cy="4572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04504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13064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67344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58784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768320" y="1773360"/>
                <a:ext cx="1371600" cy="457200"/>
                <a:chOff x="1768320" y="1773360"/>
                <a:chExt cx="1371600" cy="4572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13992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22552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76832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68272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" name=""/>
            <p:cNvGrpSpPr/>
            <p:nvPr/>
          </p:nvGrpSpPr>
          <p:grpSpPr>
            <a:xfrm>
              <a:off x="5502240" y="1773360"/>
              <a:ext cx="3047760" cy="457200"/>
              <a:chOff x="5502240" y="1773360"/>
              <a:chExt cx="3047760" cy="4572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7274160" y="1773360"/>
                <a:ext cx="1275840" cy="457200"/>
                <a:chOff x="7274160" y="1773360"/>
                <a:chExt cx="1275840" cy="4572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55000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69932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27416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12448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502240" y="1773360"/>
                <a:ext cx="1275840" cy="457200"/>
                <a:chOff x="5502240" y="1773360"/>
                <a:chExt cx="1275840" cy="4572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77808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92740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50224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352560" y="1773360"/>
                  <a:ext cx="0" cy="4572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7" name=""/>
          <p:cNvSpPr/>
          <p:nvPr/>
        </p:nvSpPr>
        <p:spPr>
          <a:xfrm>
            <a:off x="4876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2209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1880" y="2209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3276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t the number line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3886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numbers go before the z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800600"/>
            <a:ext cx="5867280" cy="8254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now going to use the number line to carry out some calc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260280"/>
            <a:ext cx="8064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ositive and Negative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dding and Subtracting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3880" y="1752480"/>
            <a:ext cx="7239240" cy="916920"/>
            <a:chOff x="1523880" y="1752480"/>
            <a:chExt cx="7239240" cy="916920"/>
          </a:xfrm>
        </p:grpSpPr>
        <p:grpSp>
          <p:nvGrpSpPr>
            <p:cNvPr id="129" name=""/>
            <p:cNvGrpSpPr/>
            <p:nvPr/>
          </p:nvGrpSpPr>
          <p:grpSpPr>
            <a:xfrm>
              <a:off x="1676520" y="1752480"/>
              <a:ext cx="7010280" cy="457200"/>
              <a:chOff x="1676520" y="1752480"/>
              <a:chExt cx="7010280" cy="457200"/>
            </a:xfrm>
          </p:grpSpPr>
          <p:sp>
            <p:nvSpPr>
              <p:cNvPr id="130" name=""/>
              <p:cNvSpPr/>
              <p:nvPr/>
            </p:nvSpPr>
            <p:spPr>
              <a:xfrm>
                <a:off x="1676520" y="1981080"/>
                <a:ext cx="7010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752480" y="1752480"/>
                <a:ext cx="3276720" cy="457200"/>
                <a:chOff x="1752480" y="1752480"/>
                <a:chExt cx="3276720" cy="45720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3657600" y="1752480"/>
                  <a:ext cx="1371600" cy="457200"/>
                  <a:chOff x="3657600" y="1752480"/>
                  <a:chExt cx="1371600" cy="45720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502920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11480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65760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7200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1752480" y="1752480"/>
                  <a:ext cx="1371600" cy="457200"/>
                  <a:chOff x="1752480" y="1752480"/>
                  <a:chExt cx="1371600" cy="45720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312408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20968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75248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266688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5486400" y="1752480"/>
                <a:ext cx="3047760" cy="457200"/>
                <a:chOff x="5486400" y="1752480"/>
                <a:chExt cx="3047760" cy="45720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7258320" y="1752480"/>
                  <a:ext cx="1275840" cy="457200"/>
                  <a:chOff x="7258320" y="1752480"/>
                  <a:chExt cx="1275840" cy="45720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853416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68348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25832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10864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5486400" y="1752480"/>
                  <a:ext cx="1275840" cy="457200"/>
                  <a:chOff x="5486400" y="1752480"/>
                  <a:chExt cx="1275840" cy="457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676224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91156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48640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336720" y="175248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3" name=""/>
            <p:cNvSpPr/>
            <p:nvPr/>
          </p:nvSpPr>
          <p:spPr>
            <a:xfrm>
              <a:off x="487692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132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94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438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4680" y="2209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1880" y="2209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434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954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232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38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600200" y="28954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going to use the number line above to calculate the sum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3733920"/>
            <a:ext cx="13716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– 1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114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Start at the numbe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696080" y="2590920"/>
            <a:ext cx="0" cy="3045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4572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To subtract go left from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800600" y="1295280"/>
            <a:ext cx="2438280" cy="459720"/>
            <a:chOff x="4800600" y="1295280"/>
            <a:chExt cx="2438280" cy="459720"/>
          </a:xfrm>
        </p:grpSpPr>
        <p:sp>
          <p:nvSpPr>
            <p:cNvPr id="175" name=""/>
            <p:cNvSpPr/>
            <p:nvPr/>
          </p:nvSpPr>
          <p:spPr>
            <a:xfrm flipH="1">
              <a:off x="6324480" y="1498320"/>
              <a:ext cx="914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1295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82880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Move 10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31484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93396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40044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1956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63832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18112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72392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26672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73356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276360" y="26668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5562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Now answer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6095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– 1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6095880"/>
            <a:ext cx="914400" cy="459720"/>
          </a:xfrm>
          <a:prstGeom prst="rect">
            <a:avLst/>
          </a:prstGeom>
          <a:solidFill>
            <a:srgbClr val="d54f41"/>
          </a:solidFill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286000"/>
            <a:ext cx="533520" cy="304920"/>
          </a:xfrm>
          <a:prstGeom prst="rect">
            <a:avLst/>
          </a:prstGeom>
          <a:solidFill>
            <a:srgbClr val="d54f41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solidFill>
            <a:srgbClr val="339933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5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dding &amp; Subtracting Exampl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71600" y="1143000"/>
            <a:ext cx="7238520" cy="916920"/>
            <a:chOff x="1371600" y="1143000"/>
            <a:chExt cx="7238520" cy="916920"/>
          </a:xfrm>
        </p:grpSpPr>
        <p:grpSp>
          <p:nvGrpSpPr>
            <p:cNvPr id="195" name=""/>
            <p:cNvGrpSpPr/>
            <p:nvPr/>
          </p:nvGrpSpPr>
          <p:grpSpPr>
            <a:xfrm>
              <a:off x="1523880" y="1143000"/>
              <a:ext cx="7009920" cy="457200"/>
              <a:chOff x="1523880" y="1143000"/>
              <a:chExt cx="7009920" cy="457200"/>
            </a:xfrm>
          </p:grpSpPr>
          <p:sp>
            <p:nvSpPr>
              <p:cNvPr id="196" name=""/>
              <p:cNvSpPr/>
              <p:nvPr/>
            </p:nvSpPr>
            <p:spPr>
              <a:xfrm>
                <a:off x="1523880" y="1371600"/>
                <a:ext cx="7009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599480" y="1143000"/>
                <a:ext cx="3276000" cy="457200"/>
                <a:chOff x="1599480" y="1143000"/>
                <a:chExt cx="3276000" cy="45720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3504240" y="1143000"/>
                  <a:ext cx="1371240" cy="457200"/>
                  <a:chOff x="3504240" y="1143000"/>
                  <a:chExt cx="1371240" cy="4572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875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9610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50424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4182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599480" y="1143000"/>
                  <a:ext cx="1371240" cy="457200"/>
                  <a:chOff x="1599480" y="1143000"/>
                  <a:chExt cx="1371240" cy="457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29707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0563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1599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5135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5333400" y="1143000"/>
                <a:ext cx="3047400" cy="457200"/>
                <a:chOff x="5333400" y="1143000"/>
                <a:chExt cx="3047400" cy="45720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7105320" y="1143000"/>
                  <a:ext cx="1275480" cy="457200"/>
                  <a:chOff x="7105320" y="1143000"/>
                  <a:chExt cx="1275480" cy="4572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838080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530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1053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95564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5333400" y="1143000"/>
                  <a:ext cx="1275480" cy="457200"/>
                  <a:chOff x="5333400" y="1143000"/>
                  <a:chExt cx="1275480" cy="4572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66088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575856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533340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1837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19" name=""/>
            <p:cNvSpPr/>
            <p:nvPr/>
          </p:nvSpPr>
          <p:spPr>
            <a:xfrm>
              <a:off x="472428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8148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3868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195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767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39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11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2040" y="1600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29240" y="1600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07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335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763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4284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0968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844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7160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23880" y="1981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calc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2514600"/>
            <a:ext cx="15238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+ 7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3200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At what number  do you st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1523880"/>
            <a:ext cx="457200" cy="457200"/>
          </a:xfrm>
          <a:prstGeom prst="rect">
            <a:avLst/>
          </a:prstGeom>
          <a:solidFill>
            <a:srgbClr val="727de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3124080"/>
            <a:ext cx="4572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37339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To add do you move left or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657600" y="762120"/>
            <a:ext cx="1828800" cy="459720"/>
            <a:chOff x="3657600" y="762120"/>
            <a:chExt cx="1828800" cy="459720"/>
          </a:xfrm>
        </p:grpSpPr>
        <p:sp>
          <p:nvSpPr>
            <p:cNvPr id="242" name=""/>
            <p:cNvSpPr/>
            <p:nvPr/>
          </p:nvSpPr>
          <p:spPr>
            <a:xfrm>
              <a:off x="3657600" y="990720"/>
              <a:ext cx="38088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1120" y="762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324480" y="3733920"/>
            <a:ext cx="1067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44197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How many squares do you mo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288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2133720"/>
            <a:ext cx="3049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2133720"/>
            <a:ext cx="3812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419720"/>
            <a:ext cx="6858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518148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The answer to the s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 + 7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5715000"/>
            <a:ext cx="761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1676520"/>
            <a:ext cx="533520" cy="380880"/>
          </a:xfrm>
          <a:prstGeom prst="rect">
            <a:avLst/>
          </a:prstGeom>
          <a:solidFill>
            <a:srgbClr val="ffff66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dding &amp; Subtracting Exampl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1143000"/>
            <a:ext cx="7238520" cy="916920"/>
            <a:chOff x="1371600" y="1143000"/>
            <a:chExt cx="7238520" cy="916920"/>
          </a:xfrm>
        </p:grpSpPr>
        <p:grpSp>
          <p:nvGrpSpPr>
            <p:cNvPr id="259" name=""/>
            <p:cNvGrpSpPr/>
            <p:nvPr/>
          </p:nvGrpSpPr>
          <p:grpSpPr>
            <a:xfrm>
              <a:off x="1523880" y="1143000"/>
              <a:ext cx="7009920" cy="457200"/>
              <a:chOff x="1523880" y="1143000"/>
              <a:chExt cx="7009920" cy="457200"/>
            </a:xfrm>
          </p:grpSpPr>
          <p:sp>
            <p:nvSpPr>
              <p:cNvPr id="260" name=""/>
              <p:cNvSpPr/>
              <p:nvPr/>
            </p:nvSpPr>
            <p:spPr>
              <a:xfrm>
                <a:off x="1523880" y="1371600"/>
                <a:ext cx="7009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1599480" y="1143000"/>
                <a:ext cx="3276000" cy="457200"/>
                <a:chOff x="1599480" y="1143000"/>
                <a:chExt cx="3276000" cy="45720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3504240" y="1143000"/>
                  <a:ext cx="1371240" cy="457200"/>
                  <a:chOff x="3504240" y="1143000"/>
                  <a:chExt cx="1371240" cy="4572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4875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9610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50424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4182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1599480" y="1143000"/>
                  <a:ext cx="1371240" cy="457200"/>
                  <a:chOff x="1599480" y="1143000"/>
                  <a:chExt cx="1371240" cy="457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9707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563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599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5135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333400" y="1143000"/>
                <a:ext cx="3047400" cy="457200"/>
                <a:chOff x="5333400" y="1143000"/>
                <a:chExt cx="3047400" cy="45720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7105320" y="1143000"/>
                  <a:ext cx="1275480" cy="457200"/>
                  <a:chOff x="7105320" y="1143000"/>
                  <a:chExt cx="1275480" cy="45720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38080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5304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1053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95564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5333400" y="1143000"/>
                  <a:ext cx="1275480" cy="457200"/>
                  <a:chOff x="5333400" y="1143000"/>
                  <a:chExt cx="1275480" cy="4572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660888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75856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33340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183720" y="1143000"/>
                    <a:ext cx="0" cy="45720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3" name=""/>
            <p:cNvSpPr/>
            <p:nvPr/>
          </p:nvSpPr>
          <p:spPr>
            <a:xfrm>
              <a:off x="472428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148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3868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195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767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339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1160" y="1600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72040" y="1600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29240" y="1600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07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335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7636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284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0968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2844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1600" y="1600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981080" y="25909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3124080"/>
            <a:ext cx="15238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3886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what number do you st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676520"/>
            <a:ext cx="457200" cy="457200"/>
          </a:xfrm>
          <a:prstGeom prst="rect">
            <a:avLst/>
          </a:prstGeom>
          <a:solidFill>
            <a:srgbClr val="727de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steps do you mo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580920" y="19810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200040" y="19810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666520" y="1981080"/>
            <a:ext cx="2286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5410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complete the su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3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1676520"/>
            <a:ext cx="457200" cy="533160"/>
          </a:xfrm>
          <a:prstGeom prst="rect">
            <a:avLst/>
          </a:prstGeom>
          <a:solidFill>
            <a:srgbClr val="727de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6019920"/>
            <a:ext cx="6094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Goes In The Box 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1143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questions below yoursel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6 – 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– 2 + 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3581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– 5 + 7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388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–4 + 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–1 – 6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 7 – 1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242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 – 7 + 1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657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 – 6 + 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428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) – 2 – 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28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) – 2 + 7 – 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98108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274320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350532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426708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518148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198108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74320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58128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434340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510552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294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7712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0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3500"/>
                            </p:stCondLst>
                            <p:childTnLst>
                              <p:par>
                                <p:cTn id="51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9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450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55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7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00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15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30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4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6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7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9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Goes In The Box ? 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914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se questions using a bigger number line if requir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12 – 1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– 32 + 2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3581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– 35 + 4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–14 +2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–18 – 52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 72 – 12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 – 34 + 5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3657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 – 36 + 26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) – 42 – 57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257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) – 29 + 73 – 89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190512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05320" y="274320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05320" y="350532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426708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05320" y="525780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9400" y="190512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274320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350532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05720" y="4343400"/>
            <a:ext cx="7617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67480" y="5029200"/>
            <a:ext cx="76212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2819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12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294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674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2500"/>
                            </p:stCondLst>
                            <p:childTnLst>
                              <p:par>
                                <p:cTn id="67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8000"/>
                            </p:stCondLst>
                            <p:childTnLst>
                              <p:par>
                                <p:cTn id="67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3500"/>
                            </p:stCondLst>
                            <p:childTnLst>
                              <p:par>
                                <p:cTn id="68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9000"/>
                            </p:stCondLst>
                            <p:childTnLst>
                              <p:par>
                                <p:cTn id="68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4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500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70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850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15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3000"/>
                            </p:stCondLst>
                            <p:childTnLst>
                              <p:par>
                                <p:cTn id="7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4500"/>
                            </p:stCondLst>
                            <p:childTnLst>
                              <p:par>
                                <p:cTn id="7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6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74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900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goes In The Box ? 3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1066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backwards here to work out the missing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– 6 +        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2971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       +   10      = 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12   –          =  –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4876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       –   14     =  –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5715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22  –          =  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7080" y="2057400"/>
            <a:ext cx="45720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2971800"/>
            <a:ext cx="45720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3962520"/>
            <a:ext cx="45720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4876920"/>
            <a:ext cx="45720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5715000"/>
            <a:ext cx="45720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19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5715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6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8500"/>
                            </p:stCondLst>
                            <p:childTnLst>
                              <p:par>
                                <p:cTn id="83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500"/>
                            </p:stCondLst>
                            <p:childTnLst>
                              <p:par>
                                <p:cTn id="8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7000"/>
                            </p:stCondLst>
                            <p:childTnLst>
                              <p:par>
                                <p:cTn id="85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25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4000"/>
                            </p:stCondLst>
                            <p:childTnLst>
                              <p:par>
                                <p:cTn id="86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9500"/>
                            </p:stCondLst>
                            <p:childTnLst>
                              <p:par>
                                <p:cTn id="86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0:50:56Z</dcterms:created>
  <dc:creator>LT Scotland</dc:creator>
  <dc:description/>
  <dc:language>en-US</dc:language>
  <cp:lastModifiedBy>LTS</cp:lastModifiedBy>
  <dcterms:modified xsi:type="dcterms:W3CDTF">2004-08-06T13:30:03Z</dcterms:modified>
  <cp:revision>36</cp:revision>
  <dc:subject/>
  <dc:title>Positive and Negative Numbers 1</dc:title>
</cp:coreProperties>
</file>